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383-2E28-482C-89AA-8FB68E7C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672-0A64-44D5-B83E-8CDF7F7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1E3-B305-4D39-B128-1EFC56BE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69E-CE7F-4982-926C-2F1923B4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21F-F8BF-4D1D-A2E1-E61F3751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7BFC-E2DB-4440-B132-2DCCFEE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471-8172-49AA-87C1-62E0F33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15F9-5451-4E50-97FD-54339E5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F672-1C72-4EC2-8AF9-0E98A357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262B-7FEE-41B8-82FA-91A8BA1A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5861-BB4A-413E-8E1D-20FE0A5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C3F-8210-4080-8855-61E1C5DF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CC55-EEF9-419E-AAA9-9CBC97C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0F0-07D6-4415-8F63-2B4F5A3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6FAB-5BDC-4312-B140-57C4AE6D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8B97-3273-4EE5-ABF1-8651139D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2405-AE47-40DB-8FB0-30BFD80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729-F5E3-417F-BA72-A161703D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EFD-AFDF-479F-8215-41CFC4A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492-82AA-4344-BD6C-6F30771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839-DB79-473A-B2B5-8D538C24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1D8-ADEE-4312-87F4-E4DE5C1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BEA-9ACE-42A1-B543-F8A1BDDE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BD2-5A52-4F61-8355-D67284BB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ABB-A9A2-447B-B287-6B76D487E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39CB-F3D9-4389-A354-3B29EA0BC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Monica/Bob Yuskaitis</cp:lastModifiedBy>
  <dcterms:modified xsi:type="dcterms:W3CDTF">2000-02-06T15:10:57Z</dcterms:modified>
  <cp:revision>7</cp:revision>
  <dc:subject/>
  <dc:title>Math Flash</dc:title>
</cp:coreProperties>
</file>